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37160"/>
        <c:axId val="60518415"/>
      </c:barChart>
      <c:catAx>
        <c:axId val="70937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8415"/>
        <c:crosses val="autoZero"/>
        <c:auto val="1"/>
        <c:lblAlgn val="ctr"/>
        <c:lblOffset val="100"/>
        <c:noMultiLvlLbl val="0"/>
      </c:catAx>
      <c:valAx>
        <c:axId val="60518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7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C90-3598-4047-9AFF-846CDF4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159-6E9B-4E6A-BDC6-EBA3BDB4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54D-EA57-4513-B2A5-69F23221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F41-626A-4B32-A295-23340AB2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110-4ECC-4D6F-87C9-C77A67A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500-4354-4B55-B34D-A8554290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092-70EA-4F00-AAF9-2ABCAA20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639-06FD-4996-AC38-0E6A4AC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3BD-D550-4730-A7A2-9905C8F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BE6-31C2-42DA-8BA2-15FFF1A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C1F-3A5B-460A-B2FA-5F6CF5A7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AAA-A84A-4FB6-B2B7-12EA31E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6828-008C-4E1C-8C21-977D4DA4D9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